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B75-7609-44B5-8F29-0074590F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035-1F45-4D9A-943C-3AEB4B33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2FC-88A1-4107-B0BD-8D50DA9F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A6C-BB2D-4997-8F86-15BEAE96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49E-D1D2-446B-8B76-9429680D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9C8-F8AF-4195-8E28-9A1AD070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BF3-3E0D-4B70-8B84-42DFF987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0A0-EB92-4E45-91FA-7462E55C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A6E-1A0A-44DA-B513-7B7C9EA4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E01-7A73-493B-9A72-7A099FBC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5F2-75AB-4A46-8DC5-2C71B4A7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7D7-168A-4B1C-BE43-0AA78611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CD83-672E-423F-B6F1-9E3F7AB5A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qualità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1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648320"/>
            <a:ext cx="3581280" cy="31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Qualità della v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dag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lla Provincia di Bolog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valigiabianca" descr=""/>
          <p:cNvPicPr/>
          <p:nvPr/>
        </p:nvPicPr>
        <p:blipFill>
          <a:blip r:embed="rId2"/>
          <a:stretch/>
        </p:blipFill>
        <p:spPr>
          <a:xfrm>
            <a:off x="8183520" y="5772240"/>
            <a:ext cx="960480" cy="1085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71800" y="6446880"/>
            <a:ext cx="5181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ahoma"/>
              </a:rPr>
              <a:t>                                  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</a:rPr>
              <a:t>Centro Demoscopico Metropolit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Tahoma"/>
              </a:rPr>
              <a:t>                                  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</a:rPr>
              <a:t>dicembr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762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2 Distribuzione degli intervistati suddivisi per titolo di studio entro i profili dell’orientamento valor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0048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718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9718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menità varie sulla città di Bolog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quotidiano più let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tifo calcistico, basket ci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profilo “etnico” dei suoi resid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808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1 Diffusione dei quotidiani nel Comune di Bologna e nel totale della Provincia (risposta multipl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718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478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447920" y="1066680"/>
          <a:ext cx="586728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6680"/>
                    <a:ext cx="5867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762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2 Quotidiani più frequentemente letti secondo il titolo di studio degli intervistati (% di colonn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718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478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762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3 Quotidiani più frequentemente letti secondo i profili di capitale sociale (% di colon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18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478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478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6294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762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4 Quotidiani più frequentemente letti secondo i profili di orientamento valoriale (% di colonn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718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478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478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7648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248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762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5 Distribuzione della simpatia per una squadra di calcio per il Comune di Bologna e per il resto della Provi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478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478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1752480"/>
          <a:ext cx="6324840" cy="38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632484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762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6 Distribuzione degli intervistati suddivisi in classi di età secondo la simpatia per una squadra di cal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18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478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66680" y="1981080"/>
          <a:ext cx="6782040" cy="36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678204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762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7 Distribuzione della simpatia per una squadra di pallacanestro per il Comune di Bologna e per il resto della Provi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718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478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78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71600" y="1752480"/>
          <a:ext cx="6324480" cy="382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6324480" cy="38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762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.8 Distribuzione degli intervistati suddivisi in classi di età secondo la simpatia per una squadra di pallacane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718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478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478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43000" y="1828800"/>
          <a:ext cx="6781680" cy="35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678168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9718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isagio sociale e pover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ll’area bolog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626160" cy="4027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762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.1 Incidenza delle tipologie benessere-povertà a Bologna e nel restante territorio provinc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762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.2 Distribuzione degli intervistati suddivisi classi d’età e condizione professionale entro le tipologie della scala benessere-povert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9718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l capitale sociale: i nuovi sogg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la socializzazione po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762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1 Distribuzione dei profili del capitale sociale per il Comune di Bologna e per il resto della Provi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95280" y="1600200"/>
          <a:ext cx="7086600" cy="399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708660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762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2.2 Distribuzione degli intervistati suddivisi in classi di età entro i profili del capitale socia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0048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95280" y="1752480"/>
          <a:ext cx="685800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8580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9718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Gli orientamenti valoriali dei bologn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Garamond"/>
              </a:rPr>
              <a:t>MeDeC – La qualità della vita in Provincia di Bologna - Rilevazione demoscopic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762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.1 Distribuzione dei profili dell’orientamento valoriale per il Comune di Bologna e per il resto della Provi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7656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2388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0:41:23Z</dcterms:created>
  <dc:creator>UTENTE</dc:creator>
  <dc:description/>
  <dc:language>en-US</dc:language>
  <cp:lastModifiedBy>Administrator</cp:lastModifiedBy>
  <dcterms:modified xsi:type="dcterms:W3CDTF">2004-01-23T11:50:35Z</dcterms:modified>
  <cp:revision>34</cp:revision>
  <dc:subject/>
  <dc:title>Presentazione di PowerPoint</dc:title>
</cp:coreProperties>
</file>